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E438-2C68-4915-8D35-B3D3F781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0FA9-DC05-4B86-B428-B6DBFA3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341C-7017-4952-A0E1-A07BA1C8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3FC0-EC46-42E2-82F5-B48F76AC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A380-0B07-4333-954D-654003F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9A0-F3BB-4557-B079-778C2C21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EE97-B6AD-40C5-A03A-A63654E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BC4-F633-41F1-BDB0-D01A182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5CE-1614-41BE-86B5-D344190D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3A1C-B99C-4A8D-B84C-D4B4A0D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E81-34BA-479D-AA5F-9FCA44F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99AC-71F3-40EE-AFF1-45C6379A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D09-4EF8-46B9-A8D8-5ADFD69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96C3-7C8B-4AC4-B3E8-38544B4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6857-715D-47F4-A565-B4555BE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CF1-19B3-4290-BD6C-1EB58977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9C28-4733-4145-A5E0-AE7499A5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C6FE-9433-47A3-91B5-7F6927E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0C65-B63C-4399-B384-05D36D3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72B0-595C-42A4-882C-7899EAD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0CD9-9AA5-405A-BC5C-47CBC04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074E-EB1C-45B5-9557-D88DC69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2C3B-6B44-4A65-90FB-96A85E9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9460-F34B-444D-86A6-BC62F36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7D7-91CF-4D58-B7F7-011B62C8B5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6FC-314F-4F91-AD2E-528ECB5EA1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&#1040;.&#1055;.&#1063;&#1077;&#1093;&#1086;&#1074;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Monotype Corsiva"/>
              </a:rPr>
              <a:t>Тема: «А.П.Чехов. Слово о писателе».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80988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 студентка 341 группы Чупрова Анаста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3124080" y="1752480"/>
            <a:ext cx="403236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аттестате зрелости отмечалась старательность ученика и его дисциплинированность, что же касается склонностей, то тут значилась достаточно туманная формула: «любознательность по всем предметам одинаковая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и в аттестате были пестрые- три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    три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  четыр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303280" cy="3073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60" name="Text Box 7"/>
          <p:cNvSpPr/>
          <p:nvPr/>
        </p:nvSpPr>
        <p:spPr>
          <a:xfrm>
            <a:off x="914400" y="22860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. П. Чехов  после  полу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ттестата зре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MCSY00481_0000[1]"/>
          <p:cNvPicPr/>
          <p:nvPr/>
        </p:nvPicPr>
        <p:blipFill>
          <a:blip r:embed="rId2"/>
          <a:stretch/>
        </p:blipFill>
        <p:spPr>
          <a:xfrm>
            <a:off x="6877080" y="5157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CSY00481_0000[1]"/>
          <p:cNvPicPr/>
          <p:nvPr/>
        </p:nvPicPr>
        <p:blipFill>
          <a:blip r:embed="rId3"/>
          <a:stretch/>
        </p:blipFill>
        <p:spPr>
          <a:xfrm>
            <a:off x="7010280" y="15238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MCSY00481_0000[1]"/>
          <p:cNvPicPr/>
          <p:nvPr/>
        </p:nvPicPr>
        <p:blipFill>
          <a:blip r:embed="rId4"/>
          <a:stretch/>
        </p:blipFill>
        <p:spPr>
          <a:xfrm>
            <a:off x="17928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SY00480_0000[1]"/>
          <p:cNvPicPr/>
          <p:nvPr/>
        </p:nvPicPr>
        <p:blipFill>
          <a:blip r:embed="rId5"/>
          <a:stretch/>
        </p:blipFill>
        <p:spPr>
          <a:xfrm>
            <a:off x="6700680" y="4241880"/>
            <a:ext cx="981360" cy="105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MCSY00480_0000[1]"/>
          <p:cNvPicPr/>
          <p:nvPr/>
        </p:nvPicPr>
        <p:blipFill>
          <a:blip r:embed="rId6"/>
          <a:stretch/>
        </p:blipFill>
        <p:spPr>
          <a:xfrm>
            <a:off x="3995640" y="458136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MCSY00480_0000[1]"/>
          <p:cNvPicPr/>
          <p:nvPr/>
        </p:nvPicPr>
        <p:blipFill>
          <a:blip r:embed="rId7"/>
          <a:stretch/>
        </p:blipFill>
        <p:spPr>
          <a:xfrm>
            <a:off x="1908000" y="429264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MCSY00479_0000[1]"/>
          <p:cNvPicPr/>
          <p:nvPr/>
        </p:nvPicPr>
        <p:blipFill>
          <a:blip r:embed="rId8"/>
          <a:stretch/>
        </p:blipFill>
        <p:spPr>
          <a:xfrm>
            <a:off x="3059280" y="522936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MCSY00479_0000[1]"/>
          <p:cNvPicPr/>
          <p:nvPr/>
        </p:nvPicPr>
        <p:blipFill>
          <a:blip r:embed="rId9"/>
          <a:stretch/>
        </p:blipFill>
        <p:spPr>
          <a:xfrm>
            <a:off x="5003640" y="5373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MCSY00479_0000[1]"/>
          <p:cNvPicPr/>
          <p:nvPr/>
        </p:nvPicPr>
        <p:blipFill>
          <a:blip r:embed="rId10"/>
          <a:stretch/>
        </p:blipFill>
        <p:spPr>
          <a:xfrm>
            <a:off x="6804000" y="2924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MCSY00479_0000[1]"/>
          <p:cNvPicPr/>
          <p:nvPr/>
        </p:nvPicPr>
        <p:blipFill>
          <a:blip r:embed="rId11"/>
          <a:stretch/>
        </p:blipFill>
        <p:spPr>
          <a:xfrm>
            <a:off x="1116000" y="551664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53280" y="6248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990720" y="30492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влечения А.П.Чехова во время учебы в Таганрогской гимна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62120" y="144792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общился к таганрогской театральной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3 г. спектакль«Прекрасная Еле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143000" y="39625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 неистощим на выдумки, любил   им-провизировать, обладал даром перевоп-лощения. В домашних спектаклях братья разыгрывали даже гоголевского «Ревизо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484360" y="5013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419720" y="243828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августе 1875 г. Выпускает рукописный журнал «Заика», пробует свои силы в драмату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2060640"/>
            <a:ext cx="3743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2002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лодого Чехова влекли литературные интересы. Вместе с братом Николаем Антон Павлович начал сотрудничать в юмористических журналах «Стрекоза и «Будильни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сты Антона иллюстрировал Никол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5805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П. Чехов с братом Никол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97400" y="907920"/>
            <a:ext cx="4152960" cy="46818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7696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228600" y="260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Первые произведения (1880-1884г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356000" y="1557360"/>
            <a:ext cx="28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33520" y="990720"/>
            <a:ext cx="4495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Смерть чиновни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олстый и тонк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Хирург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ос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нтер Пришибее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ань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Мальч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5438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7"/>
          <p:cNvSpPr/>
          <p:nvPr/>
        </p:nvSpPr>
        <p:spPr>
          <a:xfrm>
            <a:off x="685800" y="838080"/>
            <a:ext cx="7488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севдонимы А.П.Че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age Italic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оша Чехонте, Антоша, Ан.Ч., Антоша Ч., Чехонте, Дон Антонио Чехонте, Человек без селезенки, Г. Балдастов, Прозаический поэт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в «Словаре псевдонимов» И.Ф. Масанова зафиксировано 45 псевдонимов писателя, а сколько еще, возможно, существует нераскрытых псевдонимов Чех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9246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93760" y="0"/>
            <a:ext cx="4619880" cy="685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Monotype Corsiva"/>
              </a:rPr>
              <a:t>Содержание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1" action="ppaction://hlinksldjump"/>
              </a:rPr>
              <a:t>Детство А.П.Чех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2" action="ppaction://hlinksldjump"/>
              </a:rPr>
              <a:t>Семья Антона Павловича: родители, братья и сес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3" action="ppaction://hlinksldjump"/>
              </a:rPr>
              <a:t>Учеба в таганрогской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4" action="ppaction://hlinksldjump"/>
              </a:rPr>
              <a:t>Увле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5" action="ppaction://hlinksldjump"/>
              </a:rPr>
              <a:t>Первые произведения А.П.Чех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6" action="ppaction://hlinksldjump"/>
              </a:rPr>
              <a:t>Псевдон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170680" cy="32227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2133720" y="480060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 (29) ЯНВАРЯ 1860 г в городе Таганроге в купеческой семье родился Антон Павлович Че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522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Детств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2085840" cy="26575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36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76520"/>
            <a:ext cx="2124360" cy="26384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7" name="Rectangle 7"/>
          <p:cNvSpPr/>
          <p:nvPr/>
        </p:nvSpPr>
        <p:spPr>
          <a:xfrm>
            <a:off x="914400" y="47844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ГЕНИЯ ЯКОВЛЕВНА ЧЕХ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495680" y="428148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nch Script MT"/>
              </a:rPr>
              <a:t>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ВЕЛ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French Script MT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286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Родител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1629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362480" cy="3448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-1044720" y="50324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идят слева направо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Миша, Маша, Павел Егорович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вгенияЯковлевна, Людмила Пав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жена М.Е. Чехова), Георг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сын Л.П. и М.Е. Чеховы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оят слева направо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ван, Антон, Николай, Александ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итрофан Егорович Чех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2860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Семь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71629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914400" y="765000"/>
            <a:ext cx="7042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ец Павла Егоровича Чехова был крепост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  Павел Егорович Чехов сначала служил приказчиком, потом открыл бакалейную лав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вел Егорович – человек суровый и жесткий. В доме царили строгие нравы, запрещалось бегать, шуметь, водиться с товарищами, за малейшую оплошность отец мог высечь провинившего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38080" y="32004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кусству глава семьи отдавал большую часть  своего времен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л цену образованию, поэтому стремился учить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4674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Гимназия, в которой учился А.П.Чех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4140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Monotype Corsiva"/>
              </a:rPr>
              <a:t>      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Monotype Corsiva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Гимназическая програм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сеобщая и русская истор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тория Древней Греции и Р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еография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еория слове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тория русской слове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ревние язы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мецкий, язы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Французский язы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кон Бож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656240" cy="5056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64008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7"/>
          <p:cNvSpPr/>
          <p:nvPr/>
        </p:nvSpPr>
        <p:spPr>
          <a:xfrm>
            <a:off x="250920" y="333360"/>
            <a:ext cx="7057800" cy="71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Учеба в Таганрогской гимназии 1868 – 1879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одная ведомость успевае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6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1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6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0 г. - 3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удовлетворитель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ография и арифм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1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2 г. - 4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3 г. - 5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удовлетворитель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ече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4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- 5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5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6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6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7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7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8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9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10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69343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3T04:57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